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AE58-E7A5-45FA-857B-587AA102C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B7D5-DE82-4A7C-8340-A84611BE6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203-34D5-4312-B44E-9B44116E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FCB-B16E-4451-B6E3-43698BD9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CA2-0736-42EA-9DC8-6A87206D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BF0-3DE9-490B-A023-50FBF5CC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F6F-3D0B-4C21-9DD6-F0EFF780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D66-81AD-4A06-84C3-12B60890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CAB-005A-4047-B694-3A9AEF6A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505-7DA6-4DD9-A2BB-97E2DC0B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233-54F0-40A9-BEB2-386D2EC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15C-B3E2-401B-A614-8A35552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DC7-6F00-4EBB-B759-63B35DC3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35F-3D9D-47BB-8D27-073F71B6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BF1F-8F5B-46A3-A220-E46A094B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hfooza Chou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hfooza Choudh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er fotos de Mahfooza Choudh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nviar mensaje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olpea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como estas Noure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152280" y="3352680"/>
            <a:ext cx="1600200" cy="763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Mahfooza Choudhury. Mi escuela es TYWLS de Astoria. Tengo 14 años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oy en el grado 9. Mi color favorite es el Azul. Amo lee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19520" y="36576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ñana es mi cumpleaños y estoy muy fel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124080"/>
            <a:ext cx="426708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ahfooza. Bunas Días Mahfooza. Estoy muy feliz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2438280"/>
            <a:ext cx="42670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Noureen. Como estas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esta: Commetario 14 minutes ago. Dec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95480" y="419112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FELIZ COMPLEANOS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4724280"/>
            <a:ext cx="41907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racias Zenab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.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410080"/>
            <a:ext cx="44197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5909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64160" y="64771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-1.png"/>
          <p:cNvPicPr/>
          <p:nvPr/>
        </p:nvPicPr>
        <p:blipFill>
          <a:blip r:embed="rId1"/>
          <a:stretch/>
        </p:blipFill>
        <p:spPr>
          <a:xfrm>
            <a:off x="2209680" y="4191120"/>
            <a:ext cx="609840" cy="45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Photo on 12-4-12 at 8.58 AM #3.jpg"/>
          <p:cNvPicPr/>
          <p:nvPr/>
        </p:nvPicPr>
        <p:blipFill>
          <a:blip r:embed="rId2"/>
          <a:stretch/>
        </p:blipFill>
        <p:spPr>
          <a:xfrm>
            <a:off x="152280" y="533520"/>
            <a:ext cx="167976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9" descr="Photo on 12-4-12 at 8.58 AM #3.jpg"/>
          <p:cNvPicPr/>
          <p:nvPr/>
        </p:nvPicPr>
        <p:blipFill>
          <a:blip r:embed="rId3"/>
          <a:stretch/>
        </p:blipFill>
        <p:spPr>
          <a:xfrm>
            <a:off x="2133720" y="243828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0" descr="Photo on 12-4-12 at 8.58 AM #3.jpg"/>
          <p:cNvPicPr/>
          <p:nvPr/>
        </p:nvPicPr>
        <p:blipFill>
          <a:blip r:embed="rId4"/>
          <a:stretch/>
        </p:blipFill>
        <p:spPr>
          <a:xfrm>
            <a:off x="7848720" y="274320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Photo on 12-4-12 at 8.58 AM #3.jpg"/>
          <p:cNvPicPr/>
          <p:nvPr/>
        </p:nvPicPr>
        <p:blipFill>
          <a:blip r:embed="rId5"/>
          <a:stretch/>
        </p:blipFill>
        <p:spPr>
          <a:xfrm>
            <a:off x="2133720" y="525780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Photo on 12-4-12 at 9-1.jpeg"/>
          <p:cNvPicPr/>
          <p:nvPr/>
        </p:nvPicPr>
        <p:blipFill>
          <a:blip r:embed="rId6"/>
          <a:stretch/>
        </p:blipFill>
        <p:spPr>
          <a:xfrm>
            <a:off x="1371600" y="525780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oto on 12-4-12 at 9.jpeg"/>
          <p:cNvPicPr/>
          <p:nvPr/>
        </p:nvPicPr>
        <p:blipFill>
          <a:blip r:embed="rId7"/>
          <a:stretch/>
        </p:blipFill>
        <p:spPr>
          <a:xfrm>
            <a:off x="762120" y="53341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5" descr="Photo on 12-4-12 at 9.jpeg"/>
          <p:cNvPicPr/>
          <p:nvPr/>
        </p:nvPicPr>
        <p:blipFill>
          <a:blip r:embed="rId8"/>
          <a:stretch/>
        </p:blipFill>
        <p:spPr>
          <a:xfrm>
            <a:off x="2209680" y="312408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6" descr="Photo on 12-4-12 at 9.jpeg"/>
          <p:cNvPicPr/>
          <p:nvPr/>
        </p:nvPicPr>
        <p:blipFill>
          <a:blip r:embed="rId9"/>
          <a:stretch/>
        </p:blipFill>
        <p:spPr>
          <a:xfrm>
            <a:off x="2209680" y="365760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7" descr="Photo on 12-4-12 at 9.jpeg"/>
          <p:cNvPicPr/>
          <p:nvPr/>
        </p:nvPicPr>
        <p:blipFill>
          <a:blip r:embed="rId10"/>
          <a:stretch/>
        </p:blipFill>
        <p:spPr>
          <a:xfrm>
            <a:off x="2133720" y="60199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9" descr="-1.png"/>
          <p:cNvPicPr/>
          <p:nvPr/>
        </p:nvPicPr>
        <p:blipFill>
          <a:blip r:embed="rId11"/>
          <a:stretch/>
        </p:blipFill>
        <p:spPr>
          <a:xfrm>
            <a:off x="76320" y="5257800"/>
            <a:ext cx="609480" cy="45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2743200" y="601992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48Z</dcterms:created>
  <dc:creator>FriscoISD</dc:creator>
  <dc:description/>
  <dc:language>en-US</dc:language>
  <cp:lastModifiedBy>NYCDOE</cp:lastModifiedBy>
  <dcterms:modified xsi:type="dcterms:W3CDTF">2012-12-07T14:06:42Z</dcterms:modified>
  <cp:revision>104</cp:revision>
  <dc:subject/>
  <dc:title>Profile</dc:title>
</cp:coreProperties>
</file>